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830F6-34E2-4219-92A0-9E4F86122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813DE-A28A-4EA1-B64A-72763A7A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78149-07C3-4172-9A50-9660940DC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211F5-F80B-4EA5-A9E2-92939BFE5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32B9A-3FC9-4F14-953E-5E65BDB2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11477-F3AF-4CF3-A882-D52CAFFE8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8FC19-EADC-4358-A381-15D154CEE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8003-34C7-4032-AADF-5AB87CF7D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86085-77C7-417B-AB50-F75228EC3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D3E48-1772-4E49-9AAC-07F228834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73B8-C96B-448B-B414-758690031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CB56-F68A-4841-B1E0-039B4F3C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9EE0-51A7-4021-BC49-4B258BE23443}"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Imagen 2" descr="INTERIOR-01.jpg"/>
          <p:cNvPicPr/>
          <p:nvPr/>
        </p:nvPicPr>
        <p:blipFill>
          <a:blip r:embed="rId2"/>
          <a:stretch/>
        </p:blipFill>
        <p:spPr>
          <a:xfrm>
            <a:off x="0" y="0"/>
            <a:ext cx="9144000" cy="6858000"/>
          </a:xfrm>
          <a:prstGeom prst="rect">
            <a:avLst/>
          </a:prstGeom>
          <a:ln w="0">
            <a:noFill/>
          </a:ln>
        </p:spPr>
      </p:pic>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n 6" descr="POWER PORTADA-01.jpg"/>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Imagen 2" descr="INTERIOR-01.jpg"/>
          <p:cNvPicPr/>
          <p:nvPr/>
        </p:nvPicPr>
        <p:blipFill>
          <a:blip r:embed="rId2"/>
          <a:stretch/>
        </p:blipFill>
        <p:spPr>
          <a:xfrm>
            <a:off x="0" y="0"/>
            <a:ext cx="9144000" cy="685800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Imagen 6" descr="POWER PORTADA-01.jpg"/>
          <p:cNvPicPr/>
          <p:nvPr/>
        </p:nvPicPr>
        <p:blipFill>
          <a:blip r:embed="rId2"/>
          <a:stretch/>
        </p:blipFill>
        <p:spPr>
          <a:xfrm>
            <a:off x="0" y="0"/>
            <a:ext cx="9144000" cy="685800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12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2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Imagen 2" descr="INTERIOR-01.jpg"/>
          <p:cNvPicPr/>
          <p:nvPr/>
        </p:nvPicPr>
        <p:blipFill>
          <a:blip r:embed="rId2"/>
          <a:stretch/>
        </p:blipFill>
        <p:spPr>
          <a:xfrm>
            <a:off x="0" y="0"/>
            <a:ext cx="9144000" cy="685800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Imagen 2" descr="INTERIOR-01.jpg"/>
          <p:cNvPicPr/>
          <p:nvPr/>
        </p:nvPicPr>
        <p:blipFill>
          <a:blip r:embed="rId2"/>
          <a:stretch/>
        </p:blipFill>
        <p:spPr>
          <a:xfrm>
            <a:off x="0" y="0"/>
            <a:ext cx="9144000" cy="6858000"/>
          </a:xfrm>
          <a:prstGeom prst="rect">
            <a:avLst/>
          </a:prstGeom>
          <a:ln w="0">
            <a:noFill/>
          </a:ln>
        </p:spPr>
      </p:pic>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Imagen 6" descr="INTERIOR-01.jpg"/>
          <p:cNvPicPr/>
          <p:nvPr/>
        </p:nvPicPr>
        <p:blipFill>
          <a:blip r:embed="rId2"/>
          <a:stretch/>
        </p:blipFill>
        <p:spPr>
          <a:xfrm>
            <a:off x="0" y="0"/>
            <a:ext cx="9144000" cy="685800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Imagen 3" descr="POWER PORTADA-01.jpg"/>
          <p:cNvPicPr/>
          <p:nvPr/>
        </p:nvPicPr>
        <p:blipFill>
          <a:blip r:embed="rId2"/>
          <a:stretch/>
        </p:blipFill>
        <p:spPr>
          <a:xfrm>
            <a:off x="0" y="0"/>
            <a:ext cx="9144000" cy="6858000"/>
          </a:xfrm>
          <a:prstGeom prst="rect">
            <a:avLst/>
          </a:prstGeom>
          <a:ln w="0">
            <a:noFill/>
          </a:ln>
        </p:spPr>
      </p:pic>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2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80"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1"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Imagen 2" descr="INTERIOR-01.jpg"/>
          <p:cNvPicPr/>
          <p:nvPr/>
        </p:nvPicPr>
        <p:blipFill>
          <a:blip r:embed="rId2"/>
          <a:stretch/>
        </p:blipFill>
        <p:spPr>
          <a:xfrm>
            <a:off x="0" y="0"/>
            <a:ext cx="9144000" cy="68580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lick to edit the title text format</a:t>
            </a:r>
            <a:endParaRPr b="0" lang="en-US" sz="1300" spc="-1" strike="noStrike">
              <a:solidFill>
                <a:srgbClr val="000000"/>
              </a:solidFill>
              <a:latin typeface="Verdana"/>
            </a:endParaRPr>
          </a:p>
        </p:txBody>
      </p:sp>
      <p:sp>
        <p:nvSpPr>
          <p:cNvPr id="3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39640" y="549000"/>
            <a:ext cx="7128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Instrucciones</a:t>
            </a:r>
            <a:endParaRPr b="0" lang="en-US" sz="2800" spc="-1" strike="noStrike">
              <a:solidFill>
                <a:srgbClr val="000000"/>
              </a:solidFill>
              <a:latin typeface="Verdana"/>
            </a:endParaRPr>
          </a:p>
        </p:txBody>
      </p:sp>
      <p:sp>
        <p:nvSpPr>
          <p:cNvPr id="397" name=""/>
          <p:cNvSpPr txBox="1"/>
          <p:nvPr/>
        </p:nvSpPr>
        <p:spPr>
          <a:xfrm>
            <a:off x="539280" y="1557000"/>
            <a:ext cx="8209080" cy="453564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os los proyectos deben completar e ingresar esta presentación como parte de la postulación, dado que con esta se presenta el proyecto ante el panel de evalu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La extensión máxima del documento no debe exceder las 20 diapositivas.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peso digital del archivo no debe exceder los 20 Mb.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Se recomienda incluir diagramas o fotografías de bajo peso digital, que contribuyan a clarificar la present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El documento debe ser ingresado en formato PDF (Utilice el software para convertir archivos a PDF señalado en la plataforma de postul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Todas las dudas o consultas deben ser ingresadas en la plataforma OIRS https://oirsvirtual.conicyt.c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70c0"/>
                </a:solidFill>
                <a:latin typeface="Calibri"/>
              </a:rPr>
              <a:t>Recuerde que la información señalada en esta presentación debe concordar con el proyecto postulad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Calibri"/>
              </a:rPr>
              <a:t>Elimine esta diapositiva antes de su envío a FONDEF.</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serte la carta Gantt</a:t>
            </a:r>
            <a:endParaRPr b="0" lang="en-US" sz="1800" spc="-1" strike="noStrike">
              <a:solidFill>
                <a:srgbClr val="000000"/>
              </a:solidFill>
              <a:latin typeface="Verdana"/>
            </a:endParaRPr>
          </a:p>
        </p:txBody>
      </p:sp>
      <p:sp>
        <p:nvSpPr>
          <p:cNvPr id="412"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ción de Actividad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 name=""/>
          <p:cNvGraphicFramePr/>
          <p:nvPr/>
        </p:nvGraphicFramePr>
        <p:xfrm>
          <a:off x="593640" y="1628640"/>
          <a:ext cx="8140680" cy="4680000"/>
        </p:xfrm>
        <a:graphic>
          <a:graphicData uri="http://schemas.openxmlformats.org/drawingml/2006/table">
            <a:tbl>
              <a:tblPr/>
              <a:tblGrid>
                <a:gridCol w="1871640"/>
                <a:gridCol w="1513080"/>
                <a:gridCol w="1584360"/>
                <a:gridCol w="1584360"/>
                <a:gridCol w="1587240"/>
              </a:tblGrid>
              <a:tr h="4986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TEM</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FONDEF</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INSTITUCI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ENTIDADES ASOCIADA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Calibri"/>
                        </a:rPr>
                        <a:t>TOTAL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erson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ubcontrat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apacitación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quipos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oftwar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002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aterial Fungible </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asajes y viático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Seminarios, publ. y difu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ropiedad intelectu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Infraestructura</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generales</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9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Gastos adm. superior</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alibri"/>
                        </a:rPr>
                        <a:t>TOTAL</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84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RCENTAJE</a:t>
                      </a:r>
                      <a:endParaRPr b="0" lang="en-US" sz="12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414" name="PlaceHolder 1"/>
          <p:cNvSpPr>
            <a:spLocks noGrp="1"/>
          </p:cNvSpPr>
          <p:nvPr>
            <p:ph type="title"/>
          </p:nvPr>
        </p:nvSpPr>
        <p:spPr>
          <a:xfrm>
            <a:off x="593640" y="549000"/>
            <a:ext cx="707400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stribución de Recurs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del proyecto, destacando sus capacidades de gestión para dirigir proyectos de I+D.</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mbre al(la) Director(a) Alterno(a) y otros(as) integrantes del equipo del proyecto, destacando capacidades científico tecnológicas  para el éxito de la propuesta.</a:t>
            </a:r>
            <a:endParaRPr b="0" lang="en-US" sz="1800" spc="-1" strike="noStrike">
              <a:solidFill>
                <a:srgbClr val="000000"/>
              </a:solidFill>
              <a:latin typeface="Verdana"/>
            </a:endParaRPr>
          </a:p>
        </p:txBody>
      </p:sp>
      <p:sp>
        <p:nvSpPr>
          <p:cNvPr id="416" name="PlaceHolder 1"/>
          <p:cNvSpPr>
            <a:spLocks noGrp="1"/>
          </p:cNvSpPr>
          <p:nvPr>
            <p:ph type="title"/>
          </p:nvPr>
        </p:nvSpPr>
        <p:spPr>
          <a:xfrm>
            <a:off x="46800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po de Investigado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3</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MPACTO POTENCIAL ECONÓMICO Y SOCI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sultado Producción</a:t>
            </a:r>
            <a:endParaRPr b="0" lang="en-US" sz="2800" spc="-1" strike="noStrike">
              <a:solidFill>
                <a:srgbClr val="000000"/>
              </a:solidFill>
              <a:latin typeface="Verdana"/>
            </a:endParaRPr>
          </a:p>
        </p:txBody>
      </p:sp>
      <p:sp>
        <p:nvSpPr>
          <p:cNvPr id="419"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brevemente cuál será el producto, proceso o servicio final que se derivará de los resultados del proyec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Describa en forma resumida el mercado objetiv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Señale cuáles son las ventajas competitivas de su producto, proceso o servici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Indique cuál sería la estrategia de protección de la propiedad intelectual relacionada con los resultados del proyecto.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tidades Asociadas</a:t>
            </a:r>
            <a:endParaRPr b="0" lang="en-US" sz="2800" spc="-1" strike="noStrike">
              <a:solidFill>
                <a:srgbClr val="000000"/>
              </a:solidFill>
              <a:latin typeface="Verdana"/>
            </a:endParaRPr>
          </a:p>
        </p:txBody>
      </p:sp>
      <p:sp>
        <p:nvSpPr>
          <p:cNvPr id="421"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la(s) entidad(es) asociada(s) que participa(n) en el proyecto. </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será su participación en el desarrollo de l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pertinencia de las entidades asociadas para el desarrollo del proyec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549000"/>
            <a:ext cx="719928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Modelo de Negocios o Masificación</a:t>
            </a:r>
            <a:endParaRPr b="0" lang="en-US" sz="2800" spc="-1" strike="noStrike">
              <a:solidFill>
                <a:srgbClr val="000000"/>
              </a:solidFill>
              <a:latin typeface="Verdana"/>
            </a:endParaRPr>
          </a:p>
        </p:txBody>
      </p:sp>
      <p:sp>
        <p:nvSpPr>
          <p:cNvPr id="423"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os alcances del diagrama del modelo de negocios propuesto.</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caso de corresponder a un proyecto de interés público, refiérase al modelo de masifica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esentar un diagrama de modelo de negocios o masificación, identificando la posición de las empresas o entidades asociadas y estableciendo sus relaciones básicas. El diagrama debe considerar desde la entidad propietaria de los derechos de propiedad intelectual hasta el conjunto de clientes o usuarios (estos pueden ser intermedios o final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Calibri"/>
              </a:rPr>
              <a:t>(Título del proyecto)</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urso IDeA I+D 2018</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1</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NIDO CIENTÍFICO Y TECNOLÓGIC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CuadroTexto 1"/>
          <p:cNvSpPr/>
          <p:nvPr/>
        </p:nvSpPr>
        <p:spPr>
          <a:xfrm>
            <a:off x="420840" y="549360"/>
            <a:ext cx="7246800" cy="934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blema/Oportunidad y Solución Propuesta </a:t>
            </a:r>
            <a:endParaRPr b="0" lang="en-US" sz="2800" spc="-1" strike="noStrike">
              <a:solidFill>
                <a:srgbClr val="000000"/>
              </a:solidFill>
              <a:latin typeface="Century Gothic"/>
            </a:endParaRPr>
          </a:p>
        </p:txBody>
      </p:sp>
      <p:sp>
        <p:nvSpPr>
          <p:cNvPr id="401" name=""/>
          <p:cNvSpPr txBox="1"/>
          <p:nvPr/>
        </p:nvSpPr>
        <p:spPr>
          <a:xfrm>
            <a:off x="420840" y="1557360"/>
            <a:ext cx="835344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fiérase a la relevancia del problema planteado o la oportunidad que desea abord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ñale cuál es la solución propuesta y cómo esta permitirá resolver el problema identificado u oportunidad detecta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83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álisis Estado Del Arte</a:t>
            </a:r>
            <a:endParaRPr b="0" lang="en-US" sz="2800" spc="-1" strike="noStrike">
              <a:solidFill>
                <a:srgbClr val="000000"/>
              </a:solidFill>
              <a:latin typeface="Verdana"/>
            </a:endParaRPr>
          </a:p>
        </p:txBody>
      </p:sp>
      <p:sp>
        <p:nvSpPr>
          <p:cNvPr id="403" name=""/>
          <p:cNvSpPr txBox="1"/>
          <p:nvPr/>
        </p:nvSpPr>
        <p:spPr>
          <a:xfrm>
            <a:off x="48384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ómo se ha enfrentado el problema en el resto del mundo hasta ahora, realizando el correspondiente análisis del estado del arte. Tenga en cuenta publicaciones, patentes, otros tipos de protección, normativas vigentes, entre otros.</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Justifique la vigencia de la investigación, señalando cómo la solución que usted propone se diferencia con otras soluciones existentes o en desarrollo. Señale atributos diferenciador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549000"/>
            <a:ext cx="7199280" cy="86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Hipótesis y Objetivos</a:t>
            </a:r>
            <a:endParaRPr b="0" lang="en-US" sz="2800" spc="-1" strike="noStrike">
              <a:solidFill>
                <a:srgbClr val="000000"/>
              </a:solidFill>
              <a:latin typeface="Verdana"/>
            </a:endParaRPr>
          </a:p>
        </p:txBody>
      </p:sp>
      <p:sp>
        <p:nvSpPr>
          <p:cNvPr id="405" name=""/>
          <p:cNvSpPr txBox="1"/>
          <p:nvPr/>
        </p:nvSpPr>
        <p:spPr>
          <a:xfrm>
            <a:off x="468000" y="1557360"/>
            <a:ext cx="828036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o cuáles son las hipótesis a validar por esta propuesta.</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 es el objetivo general.</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cuáles son los objetivos específic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ntecedentes Previos</a:t>
            </a:r>
            <a:endParaRPr b="0" lang="en-US" sz="2800" spc="-1" strike="noStrike">
              <a:solidFill>
                <a:srgbClr val="000000"/>
              </a:solidFill>
              <a:latin typeface="Verdana"/>
            </a:endParaRPr>
          </a:p>
        </p:txBody>
      </p:sp>
      <p:sp>
        <p:nvSpPr>
          <p:cNvPr id="407"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escriba cuáles son los antecedentes previos con los que cuenta el proyecto y que dan sustento a la hipótesis propuesta y cómo estos lograrán reducir el riesgo de su validació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549000"/>
            <a:ext cx="7210440" cy="93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todologías Investigación y Desarrollo</a:t>
            </a:r>
            <a:endParaRPr b="0" lang="en-US" sz="2800" spc="-1" strike="noStrike">
              <a:solidFill>
                <a:srgbClr val="000000"/>
              </a:solidFill>
              <a:latin typeface="Verdana"/>
            </a:endParaRPr>
          </a:p>
        </p:txBody>
      </p:sp>
      <p:sp>
        <p:nvSpPr>
          <p:cNvPr id="409" name=""/>
          <p:cNvSpPr txBox="1"/>
          <p:nvPr/>
        </p:nvSpPr>
        <p:spPr>
          <a:xfrm>
            <a:off x="457200" y="1506600"/>
            <a:ext cx="8337600" cy="4525920"/>
          </a:xfrm>
          <a:prstGeom prst="rect">
            <a:avLst/>
          </a:prstGeom>
          <a:noFill/>
          <a:ln w="0">
            <a:noFill/>
          </a:ln>
        </p:spPr>
        <p:txBody>
          <a:bodyPr anchor="t">
            <a:normAutofit/>
          </a:bodyPr>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metodologías de investigación y desarrollo deben corresponder a la naturaleza propia de un proyecto de investigación científica tecnológica y deben contener todos los componentes apropiados para la comprobación de la hipótesis y el logro del resultado de producción.</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dique el diseño experimental y/o metodología a aplicar.</a:t>
            </a:r>
            <a:endParaRPr b="0" lang="en-US" sz="1800" spc="-1" strike="noStrike">
              <a:solidFill>
                <a:srgbClr val="000000"/>
              </a:solidFill>
              <a:latin typeface="Verdana"/>
            </a:endParaRPr>
          </a:p>
          <a:p>
            <a:pPr marL="343080" indent="-343080" algn="just">
              <a:lnSpc>
                <a:spcPct val="100000"/>
              </a:lnSpc>
              <a:spcBef>
                <a:spcPts val="451"/>
              </a:spcBef>
              <a:buClr>
                <a:srgbClr val="006c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luya diagramas, dibujos, esquemas u otro, que ayude a una mayor comprensión de la metodología propuest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ubTitle"/>
          </p:nvPr>
        </p:nvSpPr>
        <p:spPr>
          <a:xfrm>
            <a:off x="539280" y="2565000"/>
            <a:ext cx="8209080" cy="2376360"/>
          </a:xfrm>
          <a:prstGeom prst="rect">
            <a:avLst/>
          </a:prstGeom>
          <a:noFill/>
          <a:ln w="0">
            <a:noFill/>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ÍTULO 2</a:t>
            </a:r>
            <a:endParaRPr b="0" lang="en-US" sz="28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PACIDADES Y GESTIÓ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15:57:27Z</dcterms:created>
  <dc:creator>CONICYT</dc:creator>
  <dc:description/>
  <dc:language>en-US</dc:language>
  <cp:lastModifiedBy>Pedro Cotal Zuniga</cp:lastModifiedBy>
  <cp:lastPrinted>2003-12-19T18:55:15Z</cp:lastPrinted>
  <dcterms:modified xsi:type="dcterms:W3CDTF">2018-01-18T18:38:11Z</dcterms:modified>
  <cp:revision>168</cp:revision>
  <dc:subject/>
  <dc:title>Presentación proyecto- I Concurso IDeA En Dos Etapas- IT.pp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ikedBy">
    <vt:lpwstr/>
  </property>
  <property fmtid="{D5CDD505-2E9C-101B-9397-08002B2CF9AE}" pid="3" name="LikesCount">
    <vt:lpwstr/>
  </property>
  <property fmtid="{D5CDD505-2E9C-101B-9397-08002B2CF9AE}" pid="4" name="PublishingExpirationDate">
    <vt:lpwstr/>
  </property>
  <property fmtid="{D5CDD505-2E9C-101B-9397-08002B2CF9AE}" pid="5" name="PublishingStartDate">
    <vt:lpwstr/>
  </property>
  <property fmtid="{D5CDD505-2E9C-101B-9397-08002B2CF9AE}" pid="6" name="RatedBy">
    <vt:lpwstr/>
  </property>
  <property fmtid="{D5CDD505-2E9C-101B-9397-08002B2CF9AE}" pid="7" name="Ratings">
    <vt:lpwstr/>
  </property>
</Properties>
</file>