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EA7D7-B496-47F3-9F4B-925923BD7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65FF3-1AB2-483D-9FAF-F36B0C639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336B9-7337-472A-9CA6-631C3CF08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4C369-DB1E-4229-BE09-83DB796BB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6B07A-CD12-45E1-B123-7208E9750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C8B5A-2B7B-4EF8-AA96-A57976548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BF683-67CB-424A-844F-3E7786B40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B31EC-5939-4586-A1A7-9FD52ED10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BF2C3-D8BB-49D8-9523-79402A2D7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FF061-A712-4FD8-A136-9A8209C63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2AF8C-F362-4CBF-95AB-3D4B98D3A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387DD-DD84-4D24-9782-88EE7A0DE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21AC-FAA0-4368-ADF5-836D18290A59}"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Imagen 2" descr="INTERIOR-01.jpg"/>
          <p:cNvPicPr/>
          <p:nvPr/>
        </p:nvPicPr>
        <p:blipFill>
          <a:blip r:embed="rId2"/>
          <a:stretch/>
        </p:blipFill>
        <p:spPr>
          <a:xfrm>
            <a:off x="0" y="0"/>
            <a:ext cx="9144000" cy="6858000"/>
          </a:xfrm>
          <a:prstGeom prst="rect">
            <a:avLst/>
          </a:prstGeom>
          <a:ln w="0">
            <a:noFill/>
          </a:ln>
        </p:spPr>
      </p:pic>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3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n 6" descr="POWER PORTADA-01.jpg"/>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Imagen 2" descr="INTERIOR-01.jpg"/>
          <p:cNvPicPr/>
          <p:nvPr/>
        </p:nvPicPr>
        <p:blipFill>
          <a:blip r:embed="rId2"/>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Imagen 6" descr="POWER PORTADA-01.jpg"/>
          <p:cNvPicPr/>
          <p:nvPr/>
        </p:nvPicPr>
        <p:blipFill>
          <a:blip r:embed="rId2"/>
          <a:stretch/>
        </p:blipFill>
        <p:spPr>
          <a:xfrm>
            <a:off x="0" y="0"/>
            <a:ext cx="9144000" cy="685800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2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2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Imagen 2" descr="INTERIOR-01.jpg"/>
          <p:cNvPicPr/>
          <p:nvPr/>
        </p:nvPicPr>
        <p:blipFill>
          <a:blip r:embed="rId2"/>
          <a:stretch/>
        </p:blipFill>
        <p:spPr>
          <a:xfrm>
            <a:off x="0" y="0"/>
            <a:ext cx="9144000" cy="685800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Imagen 2" descr="INTERIOR-01.jpg"/>
          <p:cNvPicPr/>
          <p:nvPr/>
        </p:nvPicPr>
        <p:blipFill>
          <a:blip r:embed="rId2"/>
          <a:stretch/>
        </p:blipFill>
        <p:spPr>
          <a:xfrm>
            <a:off x="0" y="0"/>
            <a:ext cx="9144000" cy="6858000"/>
          </a:xfrm>
          <a:prstGeom prst="rect">
            <a:avLst/>
          </a:prstGeom>
          <a:ln w="0">
            <a:noFill/>
          </a:ln>
        </p:spPr>
      </p:pic>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Imagen 6" descr="INTERIOR-01.jpg"/>
          <p:cNvPicPr/>
          <p:nvPr/>
        </p:nvPicPr>
        <p:blipFill>
          <a:blip r:embed="rId2"/>
          <a:stretch/>
        </p:blipFill>
        <p:spPr>
          <a:xfrm>
            <a:off x="0" y="0"/>
            <a:ext cx="9144000" cy="685800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Imagen 3" descr="POWER PORTADA-01.jpg"/>
          <p:cNvPicPr/>
          <p:nvPr/>
        </p:nvPicPr>
        <p:blipFill>
          <a:blip r:embed="rId2"/>
          <a:stretch/>
        </p:blipFill>
        <p:spPr>
          <a:xfrm>
            <a:off x="0" y="0"/>
            <a:ext cx="9144000" cy="6858000"/>
          </a:xfrm>
          <a:prstGeom prst="rect">
            <a:avLst/>
          </a:prstGeom>
          <a:ln w="0">
            <a:noFill/>
          </a:ln>
        </p:spPr>
      </p:pic>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80"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81"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Imagen 2" descr="INTERIOR-01.jpg"/>
          <p:cNvPicPr/>
          <p:nvPr/>
        </p:nvPicPr>
        <p:blipFill>
          <a:blip r:embed="rId2"/>
          <a:stretch/>
        </p:blipFill>
        <p:spPr>
          <a:xfrm>
            <a:off x="0" y="0"/>
            <a:ext cx="9144000" cy="6858000"/>
          </a:xfrm>
          <a:prstGeom prst="rect">
            <a:avLst/>
          </a:prstGeom>
          <a:ln w="0">
            <a:noFill/>
          </a:ln>
        </p:spPr>
      </p:pic>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3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39640" y="549000"/>
            <a:ext cx="71280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Calibri"/>
              </a:rPr>
              <a:t>Instrucciones</a:t>
            </a:r>
            <a:endParaRPr b="0" lang="en-US" sz="2800" spc="-1" strike="noStrike">
              <a:solidFill>
                <a:srgbClr val="000000"/>
              </a:solidFill>
              <a:latin typeface="Verdana"/>
            </a:endParaRPr>
          </a:p>
        </p:txBody>
      </p:sp>
      <p:sp>
        <p:nvSpPr>
          <p:cNvPr id="397" name=""/>
          <p:cNvSpPr txBox="1"/>
          <p:nvPr/>
        </p:nvSpPr>
        <p:spPr>
          <a:xfrm>
            <a:off x="539280" y="1557000"/>
            <a:ext cx="8209080" cy="453564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Todos los proyectos deben completar e ingresar esta presentación como parte de la postulación, dado que con esta se presenta el proyecto ante el panel de evalu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La extensión máxima del documento no debe exceder las 20 diapositivas.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El peso digital del archivo no debe exceder los 20 Mb.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Se recomienda incluir diagramas o fotografías de bajo peso digital, que contribuyan a clarificar la present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El documento debe ser ingresado en formato PDF (Utilice el software para convertir archivos a PDF señalado en la plataforma de postul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Todas las dudas o consultas deben ser ingresadas en la plataforma OIRS https://oirsvirtual.conicyt.cl/</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Recuerde que la información señalada en esta presentación debe concordar con el proyecto postulad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Calibri"/>
              </a:rPr>
              <a:t>Elimine esta diapositiva antes de su envío a FONDEF.</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serte la carta Gantt</a:t>
            </a:r>
            <a:endParaRPr b="0" lang="en-US" sz="1800" spc="-1" strike="noStrike">
              <a:solidFill>
                <a:srgbClr val="000000"/>
              </a:solidFill>
              <a:latin typeface="Verdana"/>
            </a:endParaRPr>
          </a:p>
        </p:txBody>
      </p:sp>
      <p:sp>
        <p:nvSpPr>
          <p:cNvPr id="412" name="PlaceHolder 1"/>
          <p:cNvSpPr>
            <a:spLocks noGrp="1"/>
          </p:cNvSpPr>
          <p:nvPr>
            <p:ph type="title"/>
          </p:nvPr>
        </p:nvSpPr>
        <p:spPr>
          <a:xfrm>
            <a:off x="46800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gramación de Actividad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3" name=""/>
          <p:cNvGraphicFramePr/>
          <p:nvPr/>
        </p:nvGraphicFramePr>
        <p:xfrm>
          <a:off x="593640" y="1628640"/>
          <a:ext cx="8140680" cy="4680000"/>
        </p:xfrm>
        <a:graphic>
          <a:graphicData uri="http://schemas.openxmlformats.org/drawingml/2006/table">
            <a:tbl>
              <a:tblPr/>
              <a:tblGrid>
                <a:gridCol w="1871640"/>
                <a:gridCol w="1513080"/>
                <a:gridCol w="1584360"/>
                <a:gridCol w="1584360"/>
                <a:gridCol w="1587240"/>
              </a:tblGrid>
              <a:tr h="4986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ITEM</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FONDEF</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INSTITUCION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ENTIDADES ASOCIADA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OTAL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erson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ubcontrato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pacitación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quipos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oftware</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02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erial Fungible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sajes y viático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eminarios, publ. y difu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opiedad intelectu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fraestructura</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stos generale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9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stos adm. superior</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alibri"/>
                        </a:rPr>
                        <a:t>TOT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RCENTAJE</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14" name="PlaceHolder 1"/>
          <p:cNvSpPr>
            <a:spLocks noGrp="1"/>
          </p:cNvSpPr>
          <p:nvPr>
            <p:ph type="title"/>
          </p:nvPr>
        </p:nvSpPr>
        <p:spPr>
          <a:xfrm>
            <a:off x="593640" y="549000"/>
            <a:ext cx="70740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istribución de Recurso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mbre al(la) Director(a) del proyecto, destacando sus capacidades de gestión para dirigir proyectos de I+D.</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mbre al(la) Director(a) Alterno(a) y otros(as) integrantes del equipo del proyecto, destacando capacidades científico tecnológicas  para el éxito de la propuesta.</a:t>
            </a:r>
            <a:endParaRPr b="0" lang="en-US" sz="1800" spc="-1" strike="noStrike">
              <a:solidFill>
                <a:srgbClr val="000000"/>
              </a:solidFill>
              <a:latin typeface="Verdana"/>
            </a:endParaRPr>
          </a:p>
        </p:txBody>
      </p:sp>
      <p:sp>
        <p:nvSpPr>
          <p:cNvPr id="416" name="PlaceHolder 1"/>
          <p:cNvSpPr>
            <a:spLocks noGrp="1"/>
          </p:cNvSpPr>
          <p:nvPr>
            <p:ph type="title"/>
          </p:nvPr>
        </p:nvSpPr>
        <p:spPr>
          <a:xfrm>
            <a:off x="46800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quipo de Investigado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MPACTO POTENCIAL ECONÓMICO Y SOCI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sultado Producción</a:t>
            </a:r>
            <a:endParaRPr b="0" lang="en-US" sz="2800" spc="-1" strike="noStrike">
              <a:solidFill>
                <a:srgbClr val="000000"/>
              </a:solidFill>
              <a:latin typeface="Verdana"/>
            </a:endParaRPr>
          </a:p>
        </p:txBody>
      </p:sp>
      <p:sp>
        <p:nvSpPr>
          <p:cNvPr id="419"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scriba brevemente cuál será el producto, proceso o servicio final que se derivará de los resultados del proyect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scriba en forma resumida el mercado objetiv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eñale cuáles son las ventajas competitivas de su producto, proceso o servici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ndique cuál sería la estrategia de protección de la propiedad intelectual relacionada con los resultados del proyecto.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tidades Asociadas</a:t>
            </a:r>
            <a:endParaRPr b="0" lang="en-US" sz="2800" spc="-1" strike="noStrike">
              <a:solidFill>
                <a:srgbClr val="000000"/>
              </a:solidFill>
              <a:latin typeface="Verdana"/>
            </a:endParaRPr>
          </a:p>
        </p:txBody>
      </p:sp>
      <p:sp>
        <p:nvSpPr>
          <p:cNvPr id="421"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ñale la(s) entidad(es) asociada(s) que participa(n) en el proyecto.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será su participación en el desarrollo de la propuesta.</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Justifique la pertinencia de las entidades asociadas para el desarrollo del proyect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Modelo de Negocios o Masificación</a:t>
            </a:r>
            <a:endParaRPr b="0" lang="en-US" sz="2800" spc="-1" strike="noStrike">
              <a:solidFill>
                <a:srgbClr val="000000"/>
              </a:solidFill>
              <a:latin typeface="Verdana"/>
            </a:endParaRPr>
          </a:p>
        </p:txBody>
      </p:sp>
      <p:sp>
        <p:nvSpPr>
          <p:cNvPr id="423"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fiérase a los alcances del diagrama del modelo de negocios propuest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caso de corresponder a un proyecto de interés público, refiérase al modelo de masific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sentar un diagrama de modelo de negocios o masificación, identificando la posición de las empresas o entidades asociadas y estableciendo sus relaciones básicas. El diagrama debe considerar desde la entidad propietaria de los derechos de propiedad intelectual hasta el conjunto de clientes o usuarios (estos pueden ser intermedios o final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royecto</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Calibri"/>
              </a:rPr>
              <a:t>(Título del proyecto)</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curso IDeA I+D 2018</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1</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TENIDO CIENTÍFICO Y TECNOLÓGIC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CuadroTexto 1"/>
          <p:cNvSpPr/>
          <p:nvPr/>
        </p:nvSpPr>
        <p:spPr>
          <a:xfrm>
            <a:off x="420840" y="549360"/>
            <a:ext cx="7246800" cy="934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blema/Oportunidad y Solución Propuesta </a:t>
            </a:r>
            <a:endParaRPr b="0" lang="en-US" sz="2800" spc="-1" strike="noStrike">
              <a:solidFill>
                <a:srgbClr val="000000"/>
              </a:solidFill>
              <a:latin typeface="Century Gothic"/>
            </a:endParaRPr>
          </a:p>
        </p:txBody>
      </p:sp>
      <p:sp>
        <p:nvSpPr>
          <p:cNvPr id="401" name=""/>
          <p:cNvSpPr txBox="1"/>
          <p:nvPr/>
        </p:nvSpPr>
        <p:spPr>
          <a:xfrm>
            <a:off x="420840" y="1557360"/>
            <a:ext cx="835344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fiérase a la relevancia del problema planteado o la oportunidad que desea abordar.</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ñale cuál es la solución propuesta y cómo esta permitirá resolver el problema identificado u oportunidad detectad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83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álisis Estado Del Arte</a:t>
            </a:r>
            <a:endParaRPr b="0" lang="en-US" sz="2800" spc="-1" strike="noStrike">
              <a:solidFill>
                <a:srgbClr val="000000"/>
              </a:solidFill>
              <a:latin typeface="Verdana"/>
            </a:endParaRPr>
          </a:p>
        </p:txBody>
      </p:sp>
      <p:sp>
        <p:nvSpPr>
          <p:cNvPr id="403" name=""/>
          <p:cNvSpPr txBox="1"/>
          <p:nvPr/>
        </p:nvSpPr>
        <p:spPr>
          <a:xfrm>
            <a:off x="48384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scriba cómo se ha enfrentado el problema en el resto del mundo hasta ahora, realizando el correspondiente análisis del estado del arte. Tenga en cuenta publicaciones, patentes, otros tipos de protección, normativas vigentes, entre otros.</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Justifique la vigencia de la investigación, señalando cómo la solución que usted propone se diferencia con otras soluciones existentes o en desarrollo. Señale atributos diferenciador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549000"/>
            <a:ext cx="71992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Hipótesis y Objetivos</a:t>
            </a:r>
            <a:endParaRPr b="0" lang="en-US" sz="2800" spc="-1" strike="noStrike">
              <a:solidFill>
                <a:srgbClr val="000000"/>
              </a:solidFill>
              <a:latin typeface="Verdana"/>
            </a:endParaRPr>
          </a:p>
        </p:txBody>
      </p:sp>
      <p:sp>
        <p:nvSpPr>
          <p:cNvPr id="405"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o cuáles son las hipótesis a validar por esta propuesta.</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es el objetivo general.</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es son los objetivos específic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tecedentes Previos</a:t>
            </a:r>
            <a:endParaRPr b="0" lang="en-US" sz="2800" spc="-1" strike="noStrike">
              <a:solidFill>
                <a:srgbClr val="000000"/>
              </a:solidFill>
              <a:latin typeface="Verdana"/>
            </a:endParaRPr>
          </a:p>
        </p:txBody>
      </p:sp>
      <p:sp>
        <p:nvSpPr>
          <p:cNvPr id="407" name=""/>
          <p:cNvSpPr txBox="1"/>
          <p:nvPr/>
        </p:nvSpPr>
        <p:spPr>
          <a:xfrm>
            <a:off x="457200" y="1506600"/>
            <a:ext cx="833760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scriba cuáles son los antecedentes previos con los que cuenta el proyecto y que dan sustento a la hipótesis propuesta y cómo estos lograrán reducir el riesgo de su validació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etodologías Investigación y Desarrollo</a:t>
            </a:r>
            <a:endParaRPr b="0" lang="en-US" sz="2800" spc="-1" strike="noStrike">
              <a:solidFill>
                <a:srgbClr val="000000"/>
              </a:solidFill>
              <a:latin typeface="Verdana"/>
            </a:endParaRPr>
          </a:p>
        </p:txBody>
      </p:sp>
      <p:sp>
        <p:nvSpPr>
          <p:cNvPr id="409" name=""/>
          <p:cNvSpPr txBox="1"/>
          <p:nvPr/>
        </p:nvSpPr>
        <p:spPr>
          <a:xfrm>
            <a:off x="457200" y="1506600"/>
            <a:ext cx="833760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metodologías de investigación y desarrollo deben corresponder a la naturaleza propia de un proyecto de investigación científica tecnológica y deben contener todos los componentes apropiados para la comprobación de la hipótesis y el logro del resultado de produc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el diseño experimental y/o metodología a aplicar.</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cluya diagramas, dibujos, esquemas u otro, que ayude a una mayor comprensión de la metodología propuest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ACIDADES Y GESTIÓ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15:57:27Z</dcterms:created>
  <dc:creator>CONICYT</dc:creator>
  <dc:description/>
  <dc:language>en-US</dc:language>
  <cp:lastModifiedBy>Pedro Cotal Zuniga</cp:lastModifiedBy>
  <cp:lastPrinted>2003-12-19T18:55:15Z</cp:lastPrinted>
  <dcterms:modified xsi:type="dcterms:W3CDTF">2018-01-18T18:38:11Z</dcterms:modified>
  <cp:revision>168</cp:revision>
  <dc:subject/>
  <dc:title>Presentación proyecto- I Concurso IDeA En Dos Etapas- IT.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ikedBy">
    <vt:lpwstr/>
  </property>
  <property fmtid="{D5CDD505-2E9C-101B-9397-08002B2CF9AE}" pid="3" name="LikesCount">
    <vt:lpwstr/>
  </property>
  <property fmtid="{D5CDD505-2E9C-101B-9397-08002B2CF9AE}" pid="4" name="PublishingExpirationDate">
    <vt:lpwstr/>
  </property>
  <property fmtid="{D5CDD505-2E9C-101B-9397-08002B2CF9AE}" pid="5" name="PublishingStartDate">
    <vt:lpwstr/>
  </property>
  <property fmtid="{D5CDD505-2E9C-101B-9397-08002B2CF9AE}" pid="6" name="RatedBy">
    <vt:lpwstr/>
  </property>
  <property fmtid="{D5CDD505-2E9C-101B-9397-08002B2CF9AE}" pid="7" name="Ratings">
    <vt:lpwstr/>
  </property>
</Properties>
</file>