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D0EE-FDAD-4598-9046-E1FD0FC0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D7C2-DACC-4B7A-835B-046F00B0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1E94-BC79-4631-A9A1-D8846B0D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61A7-A834-4722-B536-3DC3AB1A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2C6F-1B83-4CCD-A06C-E1B99CEE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F57B-F8B3-451D-9EA5-537A20CE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F734-1141-4C9D-9992-18503CA8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16D-8F35-4B7F-915E-6F778306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F3E9-8552-481A-B727-E84BF2E1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F0C7-0E0C-4B76-BBCA-C0E3B22B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5D0-0F0D-4693-A285-2F2985B7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075B-68F8-491E-8D1D-43FAF7B1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05BE-6B15-4188-8263-1AE3C6BE4E9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6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agen 6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Imagen 6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Imagen 3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spectos Gener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39640" y="155736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Todos los proyectos deben subir este documento como parte de la presentación, en la plataforma de postulación de proyect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La presentación es utilizada para el proceso de evaluación, por lo que las diapositivas deben ser claras, autoexplicativas y coherentes con la información del proyect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Extensión: 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Máximo 15 diapositivas</a:t>
            </a: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, con un tamaño que debe ser menor a 10 MB. Incluya diagramas o fotografías de bajo peso que contribuyan a clarificar el proyec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Formato : envío en formato PDF (Utilice el software PDF Creator entregado en el sitio del concurso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Consultas :http://www.conicyt.cl/OIRS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Verdana"/>
              </a:rPr>
              <a:t>&lt;Elimine todos los comentarios en azul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Verdana"/>
              </a:rPr>
              <a:t>Elimine esta diapositiva antes de su envío a FONDEF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7. IMPLICANCIAS ÉTICAS 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Rectángulo 4"/>
          <p:cNvSpPr/>
          <p:nvPr/>
        </p:nvSpPr>
        <p:spPr>
          <a:xfrm>
            <a:off x="468360" y="2100240"/>
            <a:ext cx="8229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Presente una breve descripción del análisis y/o autoevaluación de las implicancias éticas del proyecto planteado. Mencione el análisis de riesgo beneficio, formas de resguardo de la confidencialidad, consentimiento/asentimiento informado y las autorizaciones requeridas para la ejecución del proyecto. Mencione a qué comité(s) de ética fue presentada la propuesta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8. ANTECEDENTES DE LOS PROPONENTES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8.1 ANTECEDENTES CURRICULARES DEL EQUIPO DE INVESTIGACIÓ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8.2 GENERACIÓN DE CAPACIDADES CIENTIFICO TECNOLÓGICA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Rectángulo 4"/>
          <p:cNvSpPr/>
          <p:nvPr/>
        </p:nvSpPr>
        <p:spPr>
          <a:xfrm>
            <a:off x="468360" y="184464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Verdana"/>
                <a:ea typeface="Verdana"/>
              </a:rPr>
              <a:t>&lt; Indique brevemente los antecedentes del director de la propuesta (destaque experiencia previa en participación y dirección de proyectos de investigación, entre otros) y del equipo de investigación. Recuerde que se evaluará la pertinencia de incluir personal de APS o clínico, y en formación según la naturaleza del proyecto. 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Rectángulo 5"/>
          <p:cNvSpPr/>
          <p:nvPr/>
        </p:nvSpPr>
        <p:spPr>
          <a:xfrm>
            <a:off x="468360" y="296244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Verdana"/>
                <a:ea typeface="Verdana"/>
              </a:rPr>
              <a:t>&lt; Mencione las capacidades técnicas y científico tecnológicas que se adquirirán y desarrollarán a lo largo del proyecto, y la forma en que estas serán transferidas, aplicadas o llegarán a impactar en salud, y la capacidad de respuesta en salud a las necesidades de la población a partir del estudio. 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9. </a:t>
            </a:r>
            <a:r>
              <a:rPr b="1" lang="es-CL" sz="1600" spc="-1" strike="noStrike">
                <a:solidFill>
                  <a:srgbClr val="404040"/>
                </a:solidFill>
                <a:latin typeface="Verdana"/>
              </a:rPr>
              <a:t>CAPACIDAD DE GESTIÓN Y ASOCIATIVIDAD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Rectángulo 4"/>
          <p:cNvSpPr/>
          <p:nvPr/>
        </p:nvSpPr>
        <p:spPr>
          <a:xfrm>
            <a:off x="468360" y="2100240"/>
            <a:ext cx="8229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Respecto de los integrantes del equipo de investigación mencione el cargo de cada uno de ellos y las funciones que desempeñaran que se consideran criticas para la ejecución del proyecto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Mencione las entidades asociadas al proyecto y justifique brevemente el interés y pertinencia del proyecto para éstas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755280" y="2636640"/>
            <a:ext cx="7488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98989"/>
                </a:solidFill>
                <a:latin typeface="Verdana"/>
                <a:ea typeface="Verdana"/>
              </a:rPr>
              <a:t>Proyec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98989"/>
                </a:solidFill>
                <a:latin typeface="Verdana"/>
                <a:ea typeface="Verdana"/>
              </a:rPr>
              <a:t>&lt;</a:t>
            </a:r>
            <a:r>
              <a:rPr b="1" lang="es-ES_tradnl" sz="2000" spc="-1" strike="noStrike">
                <a:solidFill>
                  <a:srgbClr val="0070c0"/>
                </a:solidFill>
                <a:latin typeface="Verdana"/>
                <a:ea typeface="Verdana"/>
              </a:rPr>
              <a:t>Incorpore el título aquí</a:t>
            </a:r>
            <a:r>
              <a:rPr b="0" lang="es-ES_tradnl" sz="2000" spc="-1" strike="noStrike">
                <a:solidFill>
                  <a:srgbClr val="898989"/>
                </a:solidFill>
                <a:latin typeface="Verdana"/>
                <a:ea typeface="Verdan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98989"/>
                </a:solidFill>
                <a:latin typeface="Verdana"/>
                <a:ea typeface="Verdana"/>
              </a:rPr>
              <a:t>XV Concurso Nacional de Investigación en Salu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98989"/>
                </a:solidFill>
                <a:latin typeface="Verdana"/>
                <a:ea typeface="Verdana"/>
              </a:rPr>
              <a:t>FONIS 2018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040"/>
                </a:solidFill>
                <a:latin typeface="Verdana"/>
              </a:rPr>
              <a:t>1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. PLANTEAMIENTO DEL PROBLEMA Y JUSTIFICACIÓN</a:t>
            </a:r>
            <a:br>
              <a:rPr sz="1400"/>
            </a:b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¿Cuál es el problema de investigación en salud que se aborda en la propuesta de investigación? 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Rectángulo 4"/>
          <p:cNvSpPr/>
          <p:nvPr/>
        </p:nvSpPr>
        <p:spPr>
          <a:xfrm>
            <a:off x="452520" y="2100240"/>
            <a:ext cx="82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en forma breve y clara los aspectos esenciales del marco teórico y de la justificación del proyecto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040"/>
                </a:solidFill>
                <a:latin typeface="Verdana"/>
              </a:rPr>
              <a:t>2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. PLANIFICACIÓN Y PROPUESTA ECONÓMICA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Rectángulo 4"/>
          <p:cNvSpPr/>
          <p:nvPr/>
        </p:nvSpPr>
        <p:spPr>
          <a:xfrm>
            <a:off x="452520" y="2100240"/>
            <a:ext cx="82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en forma breve y clara los aspectos esenciales de la planificación y propuesta económica. Incluya el flujograma y el plan de trabajo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3. PREGUNTA DE INVESTIGACIÓN, HIPÓTESIS O SUPUESTOS DE INVESTIGACIÓN Y OBJETIVOS</a:t>
            </a: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8360" y="154296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1 PREGUNTA DE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la pregunta de investigación. Debe coincidir con la planteada en el formulario de postulación. 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2 HIPÓTESIS O SUPUESTOS DE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la misma hipótesis o supuestos de investigación planteados en el formulario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 OBJE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.1 Objetivo Gener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el objetivo general del proyecto planteado en el formulario y la plataforma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.2 Objetivos Específic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Presente los mismos objetivos específicos planteados en el formulario y la plataforma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ángulo 4"/>
          <p:cNvSpPr/>
          <p:nvPr/>
        </p:nvSpPr>
        <p:spPr>
          <a:xfrm>
            <a:off x="468360" y="865080"/>
            <a:ext cx="71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los aspectos solicitados tal como fueron presentados en el formulario de postulación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040"/>
                </a:solidFill>
                <a:latin typeface="Verdana"/>
              </a:rPr>
              <a:t>4. METODOLOGÍA</a:t>
            </a:r>
            <a:br>
              <a:rPr sz="1400"/>
            </a:br>
            <a:br>
              <a:rPr sz="14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4.1 DISEÑO DE LA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Rectángulo 4"/>
          <p:cNvSpPr/>
          <p:nvPr/>
        </p:nvSpPr>
        <p:spPr>
          <a:xfrm>
            <a:off x="468360" y="210024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Especifique el diseño metodológico propuesto y señale cuáles son las actividades y procedimientos a realizar durante la ejecución del estudio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4.2 METODOLOGÍA Y PROCEDIMIEN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Rectángulo 4"/>
          <p:cNvSpPr/>
          <p:nvPr/>
        </p:nvSpPr>
        <p:spPr>
          <a:xfrm>
            <a:off x="468360" y="210024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de forma breve la estructura de la metodología y procedimientos planteados en la sección anterior para su ejecución, puede incluir diagramas de ser necesario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Título 1"/>
          <p:cNvSpPr/>
          <p:nvPr/>
        </p:nvSpPr>
        <p:spPr>
          <a:xfrm>
            <a:off x="468360" y="304920"/>
            <a:ext cx="713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040"/>
                </a:solidFill>
                <a:latin typeface="Verdana"/>
              </a:rPr>
              <a:t>4. METODOLOGÍA</a:t>
            </a:r>
            <a:br>
              <a:rPr sz="1400"/>
            </a:br>
            <a:br>
              <a:rPr sz="14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5. APLICABILIDAD DE LOS RESULTADOS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Rectángulo 4"/>
          <p:cNvSpPr/>
          <p:nvPr/>
        </p:nvSpPr>
        <p:spPr>
          <a:xfrm>
            <a:off x="468360" y="2100240"/>
            <a:ext cx="8229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Describa claramente el/los resultado(s) y/o producto(s) esperado(s) más importante(s) del proyecto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Defina claramente a los beneficiarios finales del(de los) resultado(s) y/o producto(s) del proyecto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Describa brevemente la estrategia de implementación, al menos a nivel piloto, del/de los resultado(s) y/o producto(s) del proyecto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6. ACTIVIDADES DE DIFUSIÓN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5:57:27Z</dcterms:created>
  <dc:creator>CONICYT</dc:creator>
  <dc:description/>
  <dc:language>en-US</dc:language>
  <cp:lastModifiedBy>Ximena Gonzalez Soto</cp:lastModifiedBy>
  <cp:lastPrinted>2003-12-19T18:55:15Z</cp:lastPrinted>
  <dcterms:modified xsi:type="dcterms:W3CDTF">2017-12-27T14:56:44Z</dcterms:modified>
  <cp:revision>124</cp:revision>
  <dc:subject/>
  <dc:title>Presentación proyecto- I Concurso IDeA En Dos Etapas- IT.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ikedBy">
    <vt:lpwstr/>
  </property>
  <property fmtid="{D5CDD505-2E9C-101B-9397-08002B2CF9AE}" pid="3" name="LikesCount">
    <vt:lpwstr/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RatedBy">
    <vt:lpwstr/>
  </property>
  <property fmtid="{D5CDD505-2E9C-101B-9397-08002B2CF9AE}" pid="7" name="Ratings">
    <vt:lpwstr/>
  </property>
</Properties>
</file>