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AB5-17A9-474C-9F0A-1C2FBFFF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D64-2963-4311-BCAD-6E530BF5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B2A-74CC-4873-815F-DA072527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8D8-F235-4D2E-B82E-EE3AD489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4BB-3D96-4531-94A1-1790ADD2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AB9-C67E-42DE-BBB5-D620FCE7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3EC-6F78-4EF1-A1CC-BE5219C7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CC4-3895-4E39-932A-28DBFE01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FD5-7BE0-4851-BBAA-A32ACA43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422-5D76-4A66-B464-40FC6A57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C97-FD36-445D-8647-89F87B0A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235-1FF8-460F-B5DB-547C948C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B5A9-C670-4C2D-82AB-433D2A77CE8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n 6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3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640" y="155736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Todos los proyectos deben subir este documento como parte de la presentación, en la plataforma de postulación de proyec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La presentación es utilizada para el proceso de evaluación, por lo que las diapositivas deben ser claras, autoexplicativas y coherentes con la información del proyect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Extensión: 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Máximo 15 diapositivas</a:t>
            </a: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, con un tamaño que debe ser menor a 10 MB. Incluya diagramas o fotografías de bajo peso que contribuyan a clarificar el proy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Formato : envío en formato PDF (Utilice el software PDF Creator entregado en el sitio del concurso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Consultas :http://www.conicyt.cl/OIR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&lt;Elimine todos los comentarios en azul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Elimine esta diapositiva antes de su envío a FONDEF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7. IMPLICANCIAS ÉTICAS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Rectángulo 4"/>
          <p:cNvSpPr/>
          <p:nvPr/>
        </p:nvSpPr>
        <p:spPr>
          <a:xfrm>
            <a:off x="468360" y="210024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Presente una breve descripción del análisis y/o autoevaluación de las implicancias éticas del proyecto planteado. Mencione el análisis de riesgo beneficio, formas de resguardo de la confidencialidad, consentimiento/asentimiento informado y las autorizaciones requeridas para la ejecución del proyecto. Mencione a qué comité(s) de ética fue presentada la propuesta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8. ANTECEDENTES DE LOS PROPONENTE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1 ANTECEDENTES CURRICULARES DEL EQUIPO DE INVESTIGACIÓ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2 GENERACIÓN DE CAPACIDADES CIENTIFICO TECNOLÓGIC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ángulo 4"/>
          <p:cNvSpPr/>
          <p:nvPr/>
        </p:nvSpPr>
        <p:spPr>
          <a:xfrm>
            <a:off x="468360" y="18446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Indique brevemente los antecedentes del director de la propuesta (destaque experiencia previa en participación y dirección de proyectos de investigación, entre otros) y del equipo de investigación. Recuerde que se evaluará la pertinencia de incluir personal de APS o clínico, y en formación según la naturaleza del proyect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Rectángulo 5"/>
          <p:cNvSpPr/>
          <p:nvPr/>
        </p:nvSpPr>
        <p:spPr>
          <a:xfrm>
            <a:off x="468360" y="296244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Mencione las capacidades técnicas y científico tecnológicas que se adquirirán y desarrollarán a lo largo del proyecto, y la forma en que estas serán transferidas, aplicadas o llegarán a impactar en salud, y la capacidad de respuesta en salud a las necesidades de la población a partir del estudi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9. </a:t>
            </a:r>
            <a:r>
              <a:rPr b="1" lang="es-CL" sz="1600" spc="-1" strike="noStrike">
                <a:solidFill>
                  <a:srgbClr val="404040"/>
                </a:solidFill>
                <a:latin typeface="Verdana"/>
              </a:rPr>
              <a:t>CAPACIDAD DE GESTIÓN Y ASOCIATIVIDAD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Rectángulo 4"/>
          <p:cNvSpPr/>
          <p:nvPr/>
        </p:nvSpPr>
        <p:spPr>
          <a:xfrm>
            <a:off x="468360" y="210024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Respecto de los integrantes del equipo de investigación mencione el cargo de cada uno de ellos y las funciones que desempeñaran que se consideran criticas para la ejecución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Mencione las entidades asociadas al proyecto y justifique brevemente el interés y pertinencia del proyecto para éstas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Verdana"/>
                <a:ea typeface="Verdana"/>
              </a:rPr>
              <a:t>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lt;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  <a:ea typeface="Verdana"/>
              </a:rPr>
              <a:t>Incorpore el título aquí</a:t>
            </a: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XV Concurso Nacional de Investigación en Salu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FONIS 2018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1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TEAMIENTO DEL PROBLEMA Y JUSTIFICACIÓN</a:t>
            </a:r>
            <a:br>
              <a:rPr sz="1400"/>
            </a:b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¿Cuál es el problema de investigación en salud que se aborda en la propuesta de investigación?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l marco teórico y de la justificación del proyecto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2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IFICACIÓN Y PROPUESTA ECONÓMICA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 la planificación y propuesta económica. Incluya el flujograma y el plan de trabajo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3. PREGUNTA DE INVESTIGACIÓN, HIPÓTESIS O SUPUESTOS DE INVESTIGACIÓN Y OBJETIVOS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15429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1 PREGUNTA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pregunta de investigación. Debe coincidir con la planteada en el formulario de postulación. 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2 HIPÓTESIS O SUPUESTOS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misma hipótesis o supuestos de investigación planteados en el formulario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 OBJE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1 Objetivo Gene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el objetivo general del proyecto planteado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2 Objetivo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Presente los mismos objetivos específicos planteados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468360" y="86508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los aspectos solicitados tal como fueron presentados en el formulario de postulación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1 DISEÑO DE LA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Especifique el diseño metodológico propuesto y señale cuáles son las actividades y procedimientos a realizar durante la ejecución del estud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2 METODOLOGÍA Y PROCEDIMIEN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de forma breve la estructura de la metodología y procedimientos planteados en la sección anterior para su ejecución, puede incluir diagramas de ser necesar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ítulo 1"/>
          <p:cNvSpPr/>
          <p:nvPr/>
        </p:nvSpPr>
        <p:spPr>
          <a:xfrm>
            <a:off x="468360" y="304920"/>
            <a:ext cx="71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5. APLICABILIDAD DE LOS RESULTADO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Rectángulo 4"/>
          <p:cNvSpPr/>
          <p:nvPr/>
        </p:nvSpPr>
        <p:spPr>
          <a:xfrm>
            <a:off x="468360" y="2100240"/>
            <a:ext cx="822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Describa claramente el/los resultado(s) y/o producto(s) esperado(s) más importante(s)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fina claramente a los beneficiarios finales del(de los) resultado(s) y/o producto(s) del proyecto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scriba brevemente la estrategia de implementación, al menos a nivel piloto, del/de los resultado(s) y/o producto(s) del proyecto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6. ACTIVIDADES DE DIFUSIÓN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5:57:27Z</dcterms:created>
  <dc:creator>CONICYT</dc:creator>
  <dc:description/>
  <dc:language>en-US</dc:language>
  <cp:lastModifiedBy>Ximena Gonzalez Soto</cp:lastModifiedBy>
  <cp:lastPrinted>2003-12-19T18:55:15Z</cp:lastPrinted>
  <dcterms:modified xsi:type="dcterms:W3CDTF">2017-12-27T14:56:44Z</dcterms:modified>
  <cp:revision>124</cp:revision>
  <dc:subject/>
  <dc:title>Presentación proyecto- I Concurso IDeA En Dos Etapas- IT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kedBy">
    <vt:lpwstr/>
  </property>
  <property fmtid="{D5CDD505-2E9C-101B-9397-08002B2CF9AE}" pid="3" name="LikesCount">
    <vt:lpwstr/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RatedBy">
    <vt:lpwstr/>
  </property>
  <property fmtid="{D5CDD505-2E9C-101B-9397-08002B2CF9AE}" pid="7" name="Ratings">
    <vt:lpwstr/>
  </property>
</Properties>
</file>